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Артур" initials="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<Relationship Id="rId13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08-03-09T22:02:55.109000000" idx="1">
    <p:pos x="5721" y="624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FD1C-998A-4C57-8CC9-6F39D035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448-3CEA-4814-A695-36718DF5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E181-71EF-47BE-ADBE-767A2F45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9C61-2A4D-4158-9D06-B7F812C7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6711-0982-4A68-A328-66F02B2F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1B09-ED32-4B83-AFA6-5D73A888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28F1-B4D0-4B23-B962-FCD11B74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E02D-349E-4A8E-A023-AEC02B04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56FB-021D-482E-B7F2-D709C38B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AF57-5939-47B5-8FC7-4B23D0BB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65E3-C509-416C-B059-61BC7DEA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D43-024C-4180-A383-EDA72DCC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CD12-274E-4AD5-BBAC-58D63C63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708C-498E-4421-993F-26397076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ACE4-2149-4830-94BE-D941F195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ADB9-6798-4D8C-8BC0-66A3334C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8154-C786-4806-BF91-0BAD1ECB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59C3-554F-4683-A753-6F926A4D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A14-E0F8-45F1-8587-66C56528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4787-5DF6-4104-B633-21A31F44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783-ADF7-4F3E-8C96-59786AE2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336-E2B1-456E-9CCB-28B720ED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350A-6C55-47C5-B234-91A7320C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AF5F-9C91-4189-AF7B-34F16953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8CBC-CCD8-4F35-A391-934C31B1E33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1905-5E4A-4828-AFDE-3C63E29056F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762120"/>
            <a:ext cx="81532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>
                        <a:alpha val="68235"/>
                      </a:srgbClr>
                    </a:gs>
                    <a:gs pos="100000">
                      <a:srgbClr val="ff8200">
                        <a:alpha val="2235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ый закон термодинамики.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>
                      <a:alpha val="68235"/>
                    </a:srgbClr>
                  </a:gs>
                  <a:gs pos="100000">
                    <a:srgbClr val="ff8200">
                      <a:alpha val="2235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057400" y="4191120"/>
            <a:ext cx="5410080" cy="4038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805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99">
                        <a:alpha val="16078"/>
                      </a:srgbClr>
                    </a:gs>
                  </a:gsLst>
                  <a:lin ang="5400000"/>
                </a:gradFill>
                <a:latin typeface="Arial"/>
              </a:rPr>
              <a:t>Презентация учителя МОУ «СОШ №6»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99">
                      <a:alpha val="16078"/>
                    </a:srgbClr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99">
                        <a:alpha val="16078"/>
                      </a:srgbClr>
                    </a:gs>
                  </a:gsLst>
                  <a:lin ang="5400000"/>
                </a:gradFill>
                <a:latin typeface="Arial"/>
              </a:rPr>
              <a:t>для учащихся 10-го класса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99">
                      <a:alpha val="16078"/>
                    </a:srgbClr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544212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Симонова А. М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Verdana"/>
              </a:rPr>
              <a:t>Цель презентаци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e5a78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Применить физический закон к различным процессам  на основе имеющихся знани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Работать над формированием сравнивать явления, делать выводы и обобще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Грамотное изложение материала</a:t>
            </a:r>
            <a:r>
              <a:rPr b="0" i="1" lang="en-US" sz="3200" spc="-1" strike="noStrike">
                <a:solidFill>
                  <a:srgbClr val="006666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80010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Закон сохранения и превращения энергии, распространённый на тепловые явления, называется </a:t>
            </a:r>
            <a:r>
              <a:rPr b="1" i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первым законом термодинамик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82296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Изменение внутренней энергии системы при переходе её из одного состояния в другое равно сумме работы внешних сил и количества теплоты, переданного системе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∆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U=A+Q</a:t>
            </a:r>
            <a:r>
              <a:rPr b="1" lang="ru-RU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Если система замкнута работа внешней сил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А=0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теплообмен с окружающими телами не происходи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Q=0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внутренняя энергия изолированной системы сохраняет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U</a:t>
            </a:r>
            <a:r>
              <a:rPr b="1" lang="en-US" sz="900" spc="-1" strike="noStrike">
                <a:solidFill>
                  <a:srgbClr val="006699"/>
                </a:solidFill>
                <a:latin typeface="Verdana"/>
                <a:ea typeface="Arial"/>
              </a:rPr>
              <a:t>1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=U</a:t>
            </a:r>
            <a:r>
              <a:rPr b="1" lang="en-US" sz="1000" spc="-1" strike="noStrike">
                <a:solidFill>
                  <a:srgbClr val="006699"/>
                </a:solidFill>
                <a:latin typeface="Verdana"/>
                <a:ea typeface="Arial"/>
              </a:rPr>
              <a:t>2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700"/>
                            </p:stCondLst>
                            <p:childTnLst>
                              <p:par>
                                <p:cTn id="5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700"/>
                            </p:stCondLst>
                            <p:childTnLst>
                              <p:par>
                                <p:cTn id="5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700"/>
                            </p:stCondLst>
                            <p:childTnLst>
                              <p:par>
                                <p:cTn id="6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700"/>
                            </p:stCondLst>
                            <p:childTnLst>
                              <p:par>
                                <p:cTn id="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700"/>
                            </p:stCondLst>
                            <p:childTnLst>
                              <p:par>
                                <p:cTn id="8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4700"/>
                            </p:stCondLst>
                            <p:childTnLst>
                              <p:par>
                                <p:cTn id="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6700"/>
                            </p:stCondLst>
                            <p:childTnLst>
                              <p:par>
                                <p:cTn id="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8700"/>
                            </p:stCondLst>
                            <p:childTnLst>
                              <p:par>
                                <p:cTn id="1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6666"/>
                </a:solidFill>
                <a:latin typeface="Verdana"/>
              </a:rPr>
              <a:t>Если учитывать различие только в знаках между работой внешней и внутренней сил    </a:t>
            </a:r>
            <a:r>
              <a:rPr b="1" lang="ru-RU" sz="2700" spc="-1" strike="noStrike">
                <a:solidFill>
                  <a:srgbClr val="006666"/>
                </a:solidFill>
                <a:latin typeface="Verdana"/>
              </a:rPr>
              <a:t>А=-А</a:t>
            </a:r>
            <a:r>
              <a:rPr b="1" lang="en-US" sz="2700" spc="-1" strike="noStrike">
                <a:solidFill>
                  <a:srgbClr val="006666"/>
                </a:solidFill>
                <a:latin typeface="Verdana"/>
              </a:rPr>
              <a:t>`</a:t>
            </a:r>
            <a:r>
              <a:rPr b="1" lang="ru-RU" sz="2700" spc="-1" strike="noStrike">
                <a:solidFill>
                  <a:srgbClr val="006666"/>
                </a:solidFill>
                <a:latin typeface="Verdana"/>
              </a:rPr>
              <a:t>,</a:t>
            </a:r>
            <a:endParaRPr b="0" lang="en-US" sz="27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лучим первый закон термодинамики в другом виде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600" spc="-1" strike="noStrike" u="sng">
                <a:solidFill>
                  <a:srgbClr val="006699"/>
                </a:solidFill>
                <a:uFillTx/>
                <a:latin typeface="Verdana"/>
              </a:rPr>
              <a:t>Q=</a:t>
            </a:r>
            <a:r>
              <a:rPr b="1" lang="en-US" sz="36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∆U+A`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  <a:ea typeface="Arial"/>
              </a:rPr>
              <a:t>Количество теплоты, переданное системе, идёт на изменение её внутренней энергии и на совершение системой работы над внешними силам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  <a:ea typeface="Arial"/>
              </a:rPr>
              <a:t>Из первого закона термодинамики вытекает важное следств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609120"/>
            <a:ext cx="82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Невозможность вечного двигателя!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99840"/>
            <a:ext cx="8229600" cy="33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ечный двигатель—устройство, способное совершать неограниченное количество работы без затрат топлива или каких-либо других материал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Если к системе не поступает теплота (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Q=0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)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то работа совершается только за счёт убыли внутренней энергии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`=-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Arial"/>
              </a:rPr>
              <a:t>∆U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После того как запас энергии окажется исчерпанным , двигатель перестанет работат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000"/>
                            </p:stCondLst>
                            <p:childTnLst>
                              <p:par>
                                <p:cTn id="1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Первый закон термодинамики можно применить к газовым законам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и изохорном процессе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V=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поэтому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A`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=0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Тогда изменение внутренней энергии равно количеству теплоты, переданной систем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  <a:ea typeface="Arial"/>
              </a:rPr>
              <a:t>U=Q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Если газ нагревается , то его внутренняя энергия увеличивается, а при охлаждении газа—уменьшается 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2.     При изобарном процессе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p=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  <a:ea typeface="Arial"/>
              </a:rPr>
              <a:t>∆U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+A`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Переданное газу количество теплоты идёт на изменение его внутренней энергии и  на совершение им работы при постоянном давлен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3.При изотермическом процессе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Т=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внутренняя           энергия газа не меняется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U=0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, переданное газу количество теплоты идёт на совершение работ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A`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4.При адиабатном процессе, когда система не обменивается теплотой с окружающей средой,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0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изменение внутренней энергии происходит только за счёт совершения работы: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U=A`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Почему внутренняя энергия тела не бесконечн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Как меняется температура тела при адиабатном расширении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Для получения газированной воды через воду пропускают сжатый углекислый газ. Почему температура воды при этом понижается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28600" y="304920"/>
            <a:ext cx="8534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опросы на проверку знан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9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ртур</cp:lastModifiedBy>
  <dcterms:modified xsi:type="dcterms:W3CDTF">2008-02-05T18:12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